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5.gif" ContentType="image/gif"/>
  <Override PartName="/ppt/media/image20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4.gif" ContentType="image/gif"/>
  <Override PartName="/ppt/media/image13.gif" ContentType="image/gif"/>
  <Override PartName="/ppt/media/image16.png" ContentType="image/png"/>
  <Override PartName="/ppt/media/image23.gif" ContentType="image/gif"/>
  <Override PartName="/ppt/media/image21.png" ContentType="image/png"/>
  <Override PartName="/ppt/media/image19.png" ContentType="image/png"/>
  <Override PartName="/ppt/media/image18.jpeg" ContentType="image/jpeg"/>
  <Override PartName="/ppt/media/image17.gif" ContentType="image/gif"/>
  <Override PartName="/ppt/media/image2.jpeg" ContentType="image/jpeg"/>
  <Override PartName="/ppt/media/image14.gif" ContentType="image/gif"/>
  <Override PartName="/ppt/media/image1.jpeg" ContentType="image/jpeg"/>
  <Override PartName="/ppt/media/image25.jpeg" ContentType="image/jpeg"/>
  <Override PartName="/ppt/media/image22.gif" ContentType="image/gif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CEC8-A72D-4DAC-8486-08C526B24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5AFB-17B4-4D4E-A8E9-B3BFDAF32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23BF-6520-47EE-93FE-0E4A1DAC4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6EFA-D18F-4523-9F78-B9281E49F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BF68C-415A-4A2C-B410-15542AE59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52645-71F3-4E8A-8586-EDBAE7625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7C5C5-B27A-4B6B-A843-7B5A3ECE2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9850F-B04E-4C94-8E0A-03B654016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3A8FB-C24D-4A47-877B-94A081F2A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548D1-7365-4908-89E9-4E3C2CFA9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F38ED-FF66-445B-8FF8-1409731D9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44F8-219B-485A-8A81-34C6FC38D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57364-69EB-4A5A-8467-F503677B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22819-0923-4DAB-9A18-8ACF300EF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3CDD8-2331-474A-A2E2-1975DAB86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F66C2-334B-48F0-8ECE-CCC938AA9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19FBD-A42F-426E-8A3E-75CE8EEA9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6A12E-C8B3-41AD-929B-243848F8C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4CA13-949D-46C3-BA0E-19415407A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CBCB9-8BA3-435C-9551-1E27A4F67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DA8B6-5A66-498C-9133-D547F1CE8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B82B9-B9AE-4B4E-970B-414DE04FA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16AB-7023-472B-9881-E1C834779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36DF4-FF7C-4A15-B314-0AAE59CDF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C8AD0-9AF0-4007-91F3-3DF6E5510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93C14-AA18-4FC3-8611-293FC2B82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A46EB-A362-44DC-94CB-1BB0D56CC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31A2D-E533-44D1-AE7C-687C0080C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69214-36EE-418A-8A9A-6FE3A1D76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AAE6B-F60B-4869-9DBB-630370DAE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0BAAB-ED57-41F5-BE61-831B7164B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5F77B-3040-4813-AE81-DFD54FF63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12878-7698-4FA2-8A8F-93FF4A7A7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18CF-F27D-4665-A7C2-1EE880DD0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42A53-1697-4B47-92CE-33791346F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44D74-E7FA-4ECE-91EB-6F339469C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61C47-6516-4EA4-A2C0-F729DE293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E3F3E-38DA-431D-A93C-9E60AF376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1B4FA-5BC7-4896-989A-91BA9670F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A0E65-4883-44DC-8357-E21116BDF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DB0ED-6AE2-40F8-BBBD-670301A13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291FB-DC6B-4D85-A359-E9E113575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773D9-F473-4C9F-A7D9-273DE5B4A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7E4F-A117-464A-8C8A-BCC9E7B64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397B-823C-44CD-9B66-6DD51C1A5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66C5-8AC3-426D-A19E-E99FF9E5F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164A-DD1E-478C-B2FF-4F2127780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FB27-713B-42FF-9FC9-1C7092389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Rectangle 5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339933"/>
                </a:gs>
                <a:gs pos="100000">
                  <a:srgbClr val="8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2" name="Rectangle 6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339933"/>
                </a:gs>
                <a:gs pos="100000">
                  <a:srgbClr val="cc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3" name="Group 7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Rectangle 8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3399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" name="Rectangle 9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3399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6" name="Group 10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Rectangle 11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339933"/>
                </a:gs>
                <a:gs pos="100000">
                  <a:srgbClr val="ff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" name="Rectangle 12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339933"/>
                </a:gs>
                <a:gs pos="100000">
                  <a:srgbClr val="cc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9" name="Group 13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10" name="Rectangle 14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3399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" name="Rectangle 15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3399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33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7DFC1-147F-44AC-BA7B-AAA7C8BAC472}" type="slidenum">
              <a:rPr b="0" lang="ru-RU" sz="1400" spc="-1" strike="noStrike">
                <a:solidFill>
                  <a:srgbClr val="333333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33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813D7-E2A0-4958-9C66-EE52FA3B3336}" type="slidenum">
              <a:rPr b="0" lang="ru-RU" sz="1400" spc="-1" strike="noStrike">
                <a:solidFill>
                  <a:srgbClr val="333333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Group 7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9" name="Rectangle 8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339933"/>
                </a:gs>
                <a:gs pos="100000">
                  <a:srgbClr val="8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339933"/>
                </a:gs>
                <a:gs pos="100000">
                  <a:srgbClr val="cc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61" name="Group 10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2" name="Rectangle 11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3399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" name="Rectangle 12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3399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64" name="Group 13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5" name="Rectangle 14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339933"/>
                </a:gs>
                <a:gs pos="100000">
                  <a:srgbClr val="ff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6" name="Rectangle 15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339933"/>
                </a:gs>
                <a:gs pos="100000">
                  <a:srgbClr val="cc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67" name="Group 16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68" name="Rectangle 17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3399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" name="Rectangle 18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3399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70" name="Group 19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71" name="Rectangle 20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3399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2" name="Rectangle 21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3399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33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018F2-858C-4B06-9E22-BC7AF3EE103B}" type="slidenum">
              <a:rPr b="0" lang="ru-RU" sz="1400" spc="-1" strike="noStrike">
                <a:solidFill>
                  <a:srgbClr val="333333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Group 7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15" name="Rectangle 8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339933"/>
                </a:gs>
                <a:gs pos="100000">
                  <a:srgbClr val="8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6" name="Rectangle 9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339933"/>
                </a:gs>
                <a:gs pos="100000">
                  <a:srgbClr val="cc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117" name="Group 10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118" name="Rectangle 11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3399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9" name="Rectangle 12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3399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120" name="Group 13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1" name="Rectangle 14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339933"/>
                </a:gs>
                <a:gs pos="100000">
                  <a:srgbClr val="ff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2" name="Rectangle 15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339933"/>
                </a:gs>
                <a:gs pos="100000">
                  <a:srgbClr val="cc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123" name="Group 16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124" name="Rectangle 17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3399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5" name="Rectangle 18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3399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126" name="Group 19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27" name="Rectangle 20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3399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8" name="Rectangle 21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3399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2463C-948C-4143-B389-68326A8AA96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7.xml"/><Relationship Id="rId3" Type="http://schemas.openxmlformats.org/officeDocument/2006/relationships/slide" Target="slide17.xm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" Target="slide16.xml"/><Relationship Id="rId3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" Target=""/><Relationship Id="rId4" Type="http://schemas.openxmlformats.org/officeDocument/2006/relationships/slide" Target="slide16.xml"/><Relationship Id="rId5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00000" y="350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258920" y="4220640"/>
            <a:ext cx="6415200" cy="22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 flipV="1" rot="10804800">
            <a:off x="3132000" y="4723200"/>
            <a:ext cx="575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Учитель немецкого языка 1 категории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Кошелева Наталья Валентиновна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250920" y="40464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                                 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Ростовская область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Муниципальное бюджетное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общеобразовательное учреждение  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Матвеево-Курганская средняя общеобразовательная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школа №1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210" name="i-tmb-0x" descr="i?id=342631638-51-72"/>
          <p:cNvPicPr/>
          <p:nvPr/>
        </p:nvPicPr>
        <p:blipFill>
          <a:blip r:embed="rId1"/>
          <a:stretch/>
        </p:blipFill>
        <p:spPr>
          <a:xfrm>
            <a:off x="324000" y="3357720"/>
            <a:ext cx="2357280" cy="3157560"/>
          </a:xfrm>
          <a:prstGeom prst="rect">
            <a:avLst/>
          </a:prstGeom>
          <a:ln w="0">
            <a:noFill/>
          </a:ln>
        </p:spPr>
      </p:pic>
      <p:sp>
        <p:nvSpPr>
          <p:cNvPr id="211" name="WordArt 8"/>
          <p:cNvSpPr txBox="1"/>
          <p:nvPr/>
        </p:nvSpPr>
        <p:spPr>
          <a:xfrm>
            <a:off x="1116000" y="1413000"/>
            <a:ext cx="780732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hema: Die Rolle der Sprachen 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            </a:t>
            </a: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in unserem Leben                         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cc"/>
                </a:solidFill>
                <a:latin typeface="Arial"/>
              </a:rPr>
              <a:t>Betitelt den Tex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0000"/>
                </a:solidFill>
                <a:latin typeface="Arial"/>
              </a:rPr>
              <a:t>Kato Lomb lernt Sprachen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0000"/>
                </a:solidFill>
                <a:latin typeface="Arial"/>
              </a:rPr>
              <a:t>Die Rolle der Fremdsprache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0000"/>
                </a:solidFill>
                <a:latin typeface="Arial"/>
              </a:rPr>
              <a:t>Interesse, Ausdauer, Zeit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5" descr="18aa2fb4e9dffae706350c836ff29403[1]"/>
          <p:cNvPicPr/>
          <p:nvPr/>
        </p:nvPicPr>
        <p:blipFill>
          <a:blip r:embed="rId1"/>
          <a:stretch/>
        </p:blipFill>
        <p:spPr>
          <a:xfrm>
            <a:off x="6637320" y="4292640"/>
            <a:ext cx="25066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800" spc="-1" strike="noStrike">
                <a:solidFill>
                  <a:srgbClr val="0000cc"/>
                </a:solidFill>
                <a:latin typeface="Arial"/>
              </a:rPr>
              <a:t>Diese Geschichte ist über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9280" y="1844280"/>
            <a:ext cx="568980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0000"/>
                </a:solidFill>
                <a:latin typeface="Arial"/>
              </a:rPr>
              <a:t>die Liebe zu den Menschen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4800" spc="-1" strike="noStrike">
                <a:solidFill>
                  <a:srgbClr val="000000"/>
                </a:solidFill>
                <a:latin typeface="Arial"/>
              </a:rPr>
              <a:t>Interesse zu den Fremdsprachen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4800" spc="-1" strike="noStrike">
                <a:solidFill>
                  <a:srgbClr val="000000"/>
                </a:solidFill>
                <a:latin typeface="Arial"/>
              </a:rPr>
              <a:t>das Schulleb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4" descr="2ff8aef9d867adb29ddacd70cb0dea02[1]"/>
          <p:cNvPicPr/>
          <p:nvPr/>
        </p:nvPicPr>
        <p:blipFill>
          <a:blip r:embed="rId1"/>
          <a:stretch/>
        </p:blipFill>
        <p:spPr>
          <a:xfrm>
            <a:off x="5388120" y="1341360"/>
            <a:ext cx="3755880" cy="43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600" spc="-1" strike="noStrike">
                <a:solidFill>
                  <a:srgbClr val="0000cc"/>
                </a:solidFill>
                <a:latin typeface="Arial"/>
              </a:rPr>
              <a:t>Das is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0000"/>
                </a:solidFill>
                <a:latin typeface="Arial"/>
              </a:rPr>
              <a:t>eine lehrreiche Geschich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0000"/>
                </a:solidFill>
                <a:latin typeface="Arial"/>
              </a:rPr>
              <a:t>eine phantastische Geschich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0000"/>
                </a:solidFill>
                <a:latin typeface="Arial"/>
              </a:rPr>
              <a:t>eine tragische    Geschich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4" descr="d0258e58b38803a991555ed74b3bca47[1]"/>
          <p:cNvPicPr/>
          <p:nvPr/>
        </p:nvPicPr>
        <p:blipFill>
          <a:blip r:embed="rId1"/>
          <a:stretch/>
        </p:blipFill>
        <p:spPr>
          <a:xfrm>
            <a:off x="5003640" y="2349360"/>
            <a:ext cx="3961080" cy="35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cc"/>
                </a:solidFill>
                <a:latin typeface="Arial"/>
              </a:rPr>
              <a:t>Wählt die passenden Sprichwörter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1. Klein aber fe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2. Erst die Arbeit, dann das Spie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3. Probieren geht über studier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4. Lernst du was, so kannst du was.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5. Ende gut, alles gu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4" descr="c5da5491bdce7a447e3a5fe0c3d96e0d[1]"/>
          <p:cNvPicPr/>
          <p:nvPr/>
        </p:nvPicPr>
        <p:blipFill>
          <a:blip r:embed="rId1"/>
          <a:stretch/>
        </p:blipFill>
        <p:spPr>
          <a:xfrm>
            <a:off x="5796000" y="4076640"/>
            <a:ext cx="28256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cc"/>
                </a:solidFill>
                <a:latin typeface="Arial"/>
              </a:rPr>
              <a:t>Vollendet die Sätze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42920" y="1268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6"/>
          <p:cNvSpPr/>
          <p:nvPr/>
        </p:nvSpPr>
        <p:spPr>
          <a:xfrm>
            <a:off x="2843280" y="2205000"/>
            <a:ext cx="1873080" cy="432000"/>
          </a:xfrm>
          <a:prstGeom prst="line">
            <a:avLst/>
          </a:prstGeom>
          <a:ln w="316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8" name="Line 14"/>
          <p:cNvSpPr/>
          <p:nvPr/>
        </p:nvSpPr>
        <p:spPr>
          <a:xfrm>
            <a:off x="3276720" y="3429000"/>
            <a:ext cx="2016000" cy="863640"/>
          </a:xfrm>
          <a:prstGeom prst="line">
            <a:avLst/>
          </a:prstGeom>
          <a:ln w="284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9" name="Line 15"/>
          <p:cNvSpPr/>
          <p:nvPr/>
        </p:nvSpPr>
        <p:spPr>
          <a:xfrm>
            <a:off x="3780000" y="4076640"/>
            <a:ext cx="1439640" cy="1081080"/>
          </a:xfrm>
          <a:prstGeom prst="line">
            <a:avLst/>
          </a:prstGeom>
          <a:ln w="2844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0" name="Line 16"/>
          <p:cNvSpPr/>
          <p:nvPr/>
        </p:nvSpPr>
        <p:spPr>
          <a:xfrm flipV="1">
            <a:off x="3780000" y="3716280"/>
            <a:ext cx="1368360" cy="720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1" name="Line 17"/>
          <p:cNvSpPr/>
          <p:nvPr/>
        </p:nvSpPr>
        <p:spPr>
          <a:xfrm>
            <a:off x="3132000" y="5373720"/>
            <a:ext cx="1511280" cy="28728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2" name="Line 20"/>
          <p:cNvSpPr/>
          <p:nvPr/>
        </p:nvSpPr>
        <p:spPr>
          <a:xfrm flipV="1">
            <a:off x="3924360" y="2276640"/>
            <a:ext cx="863640" cy="3744720"/>
          </a:xfrm>
          <a:prstGeom prst="line">
            <a:avLst/>
          </a:prstGeom>
          <a:ln w="284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3" name="Rectangle 22"/>
          <p:cNvSpPr/>
          <p:nvPr/>
        </p:nvSpPr>
        <p:spPr>
          <a:xfrm>
            <a:off x="4572000" y="1916280"/>
            <a:ext cx="457200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Russisch zu lernen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der Fremdsprachen in ihrem Leben 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Wort Englisch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kam sie auf die Universität. 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Englischlehrer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als Englischlehrerin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4" name="Rectangle 23"/>
          <p:cNvSpPr/>
          <p:nvPr/>
        </p:nvSpPr>
        <p:spPr>
          <a:xfrm>
            <a:off x="0" y="1727280"/>
            <a:ext cx="4211640" cy="47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1. Sie erzählte über die Rolle …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2. Nachdem Kato Lomb das Gymnasium beendet hatte, …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3. Man brauchte aber …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4. Kato konnte kein 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5.Sie arbeitete erfolgreich …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6. Mit Hilfe dieser Bücher begann sie …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2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7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cc"/>
                </a:solidFill>
                <a:latin typeface="Arial"/>
              </a:rPr>
              <a:t>Welche Sätze entsprechen </a:t>
            </a:r>
            <a:br>
              <a:rPr sz="4000"/>
            </a:br>
            <a:r>
              <a:rPr b="1" lang="de-DE" sz="4000" spc="-1" strike="noStrike">
                <a:solidFill>
                  <a:srgbClr val="0000cc"/>
                </a:solidFill>
                <a:latin typeface="Arial"/>
              </a:rPr>
              <a:t>dem Inhalt des Text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4" descr="e2bebd5d3cef6872b99d792b8a7bd511[1]"/>
          <p:cNvPicPr/>
          <p:nvPr/>
        </p:nvPicPr>
        <p:blipFill>
          <a:blip r:embed="rId2"/>
          <a:stretch/>
        </p:blipFill>
        <p:spPr>
          <a:xfrm>
            <a:off x="7781760" y="0"/>
            <a:ext cx="1362240" cy="1581120"/>
          </a:xfrm>
          <a:prstGeom prst="rect">
            <a:avLst/>
          </a:prstGeom>
          <a:ln w="0">
            <a:noFill/>
          </a:ln>
        </p:spPr>
      </p:pic>
      <p:sp>
        <p:nvSpPr>
          <p:cNvPr id="279" name="Freeform 5"/>
          <p:cNvSpPr/>
          <p:nvPr/>
        </p:nvSpPr>
        <p:spPr>
          <a:xfrm>
            <a:off x="5630760" y="1828800"/>
            <a:ext cx="233640" cy="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0" name="Freeform 6"/>
          <p:cNvSpPr/>
          <p:nvPr/>
        </p:nvSpPr>
        <p:spPr>
          <a:xfrm flipV="1">
            <a:off x="5834160" y="1787400"/>
            <a:ext cx="392040" cy="2016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cxnSp>
        <p:nvCxnSpPr>
          <p:cNvPr id="281" name="AutoShape 7"/>
          <p:cNvCxnSpPr>
            <a:stCxn id="279" idx="2"/>
          </p:cNvCxnSpPr>
          <p:nvPr/>
        </p:nvCxnSpPr>
        <p:spPr>
          <a:xfrm flipH="1" flipV="1">
            <a:off x="4114440" y="1599480"/>
            <a:ext cx="1750320" cy="229320"/>
          </a:xfrm>
          <a:prstGeom prst="straightConnector1">
            <a:avLst/>
          </a:prstGeom>
          <a:ln w="0">
            <a:noFill/>
          </a:ln>
        </p:spPr>
      </p:cxnSp>
      <p:sp>
        <p:nvSpPr>
          <p:cNvPr id="282" name="AutoShape 9"/>
          <p:cNvSpPr/>
          <p:nvPr/>
        </p:nvSpPr>
        <p:spPr>
          <a:xfrm>
            <a:off x="6659640" y="2133720"/>
            <a:ext cx="287280" cy="21744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3" name="AutoShape 10"/>
          <p:cNvSpPr/>
          <p:nvPr/>
        </p:nvSpPr>
        <p:spPr>
          <a:xfrm>
            <a:off x="6877080" y="1628640"/>
            <a:ext cx="287280" cy="2890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4" name="AutoShape 11"/>
          <p:cNvSpPr/>
          <p:nvPr/>
        </p:nvSpPr>
        <p:spPr>
          <a:xfrm>
            <a:off x="2411280" y="3357720"/>
            <a:ext cx="287640" cy="28872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5" name="AutoShape 12"/>
          <p:cNvSpPr/>
          <p:nvPr/>
        </p:nvSpPr>
        <p:spPr>
          <a:xfrm>
            <a:off x="4859280" y="5157720"/>
            <a:ext cx="287280" cy="2890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6" name="AutoShape 13"/>
          <p:cNvSpPr/>
          <p:nvPr/>
        </p:nvSpPr>
        <p:spPr>
          <a:xfrm>
            <a:off x="6588000" y="3860640"/>
            <a:ext cx="287640" cy="2178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7" name="AutoShape 14"/>
          <p:cNvSpPr/>
          <p:nvPr/>
        </p:nvSpPr>
        <p:spPr>
          <a:xfrm>
            <a:off x="5292720" y="4724280"/>
            <a:ext cx="287280" cy="21744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8" name="AutoShape 15"/>
          <p:cNvSpPr/>
          <p:nvPr/>
        </p:nvSpPr>
        <p:spPr>
          <a:xfrm>
            <a:off x="6659640" y="5589720"/>
            <a:ext cx="287280" cy="28872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9" name="AutoShape 16"/>
          <p:cNvSpPr/>
          <p:nvPr/>
        </p:nvSpPr>
        <p:spPr>
          <a:xfrm>
            <a:off x="3708360" y="6453360"/>
            <a:ext cx="287280" cy="21744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0" name="Rectangle 19"/>
          <p:cNvSpPr/>
          <p:nvPr/>
        </p:nvSpPr>
        <p:spPr>
          <a:xfrm>
            <a:off x="324000" y="1555920"/>
            <a:ext cx="7416720" cy="53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cc00"/>
                </a:solidFill>
                <a:latin typeface="Arial"/>
              </a:rPr>
              <a:t>Kato lernte in der Schule Deutsch.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cc00"/>
                </a:solidFill>
                <a:latin typeface="Arial"/>
              </a:rPr>
              <a:t>Ihr gefiel die lateinische Sprache.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cc00"/>
                </a:solidFill>
                <a:latin typeface="Arial"/>
              </a:rPr>
              <a:t>Kato hatte ein besonderes Talent für Sprachen, so war die Meinung der Lehrer.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cc00"/>
                </a:solidFill>
                <a:latin typeface="Arial"/>
              </a:rPr>
              <a:t>Kato studierte an der Universität.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cc00"/>
                </a:solidFill>
                <a:latin typeface="Arial"/>
              </a:rPr>
              <a:t>Sie bekam das Diplom auf dem Gebiet der Naturwissenschaften.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cc00"/>
                </a:solidFill>
                <a:latin typeface="Arial"/>
              </a:rPr>
              <a:t>Sie fand schnell Arbeit.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cc00"/>
                </a:solidFill>
                <a:latin typeface="Arial"/>
              </a:rPr>
              <a:t>Sie arbeitete als Russischlehrerin.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cc00"/>
                </a:solidFill>
                <a:latin typeface="Arial"/>
              </a:rPr>
              <a:t>Nach dem Krieg arbeitete Kato als Dolmetscherin.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2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7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2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7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2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7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2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7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2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400" spc="-1" strike="noStrike">
                <a:solidFill>
                  <a:srgbClr val="0000cc"/>
                </a:solidFill>
                <a:latin typeface="Arial"/>
              </a:rPr>
              <a:t>Warum lernte Kato Englisch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Sie konnte keine Arbeit finde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Sie wollte Dolmetscherin werde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Sie hatte viel Freizei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6" descr="i?id=560114110-38-72"/>
          <p:cNvPicPr/>
          <p:nvPr/>
        </p:nvPicPr>
        <p:blipFill>
          <a:blip r:embed="rId4"/>
          <a:stretch/>
        </p:blipFill>
        <p:spPr>
          <a:xfrm>
            <a:off x="6948360" y="907920"/>
            <a:ext cx="1862280" cy="12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964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 Black"/>
              </a:rPr>
              <a:t>Du hast nicht recht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99680" y="1412640"/>
            <a:ext cx="8643960" cy="56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4" descr="D:\ЛЕНА\Галерея картинок и фото\Галерея\CAGCAT50\archive\Plan.files\image003.gif"/>
          <p:cNvPicPr/>
          <p:nvPr/>
        </p:nvPicPr>
        <p:blipFill>
          <a:blip r:embed="rId1"/>
          <a:stretch/>
        </p:blipFill>
        <p:spPr>
          <a:xfrm>
            <a:off x="3429000" y="2857680"/>
            <a:ext cx="1766880" cy="2347560"/>
          </a:xfrm>
          <a:prstGeom prst="rect">
            <a:avLst/>
          </a:prstGeom>
          <a:ln w="0">
            <a:noFill/>
          </a:ln>
        </p:spPr>
      </p:pic>
      <p:sp>
        <p:nvSpPr>
          <p:cNvPr id="297" name="Стрелка вправо 10">
            <a:hlinkClick r:id="rId2" action="ppaction://hlinksldjump"/>
          </p:cNvPr>
          <p:cNvSpPr/>
          <p:nvPr/>
        </p:nvSpPr>
        <p:spPr>
          <a:xfrm>
            <a:off x="7500960" y="6143760"/>
            <a:ext cx="1071720" cy="500040"/>
          </a:xfrm>
          <a:prstGeom prst="rightArrow">
            <a:avLst>
              <a:gd name="adj1" fmla="val 50000"/>
              <a:gd name="adj2" fmla="val 50009"/>
            </a:avLst>
          </a:prstGeom>
          <a:solidFill>
            <a:srgbClr val="00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 Black"/>
              </a:rPr>
              <a:t>Du hast recht!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53964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3" descr="D:\ЛЕНА\Галерея картинок и фото\Галерея\Картинки\ICONS\PD\BAH.GIF"/>
          <p:cNvPicPr/>
          <p:nvPr/>
        </p:nvPicPr>
        <p:blipFill>
          <a:blip r:embed="rId1"/>
          <a:stretch/>
        </p:blipFill>
        <p:spPr>
          <a:xfrm>
            <a:off x="3786120" y="307188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8" descr="D:\ЛЕНА\Галерея картинок и фото\Галерея\CAGCAT50\archive\Plan.files\image001.gif"/>
          <p:cNvPicPr/>
          <p:nvPr/>
        </p:nvPicPr>
        <p:blipFill>
          <a:blip r:embed="rId2"/>
          <a:stretch/>
        </p:blipFill>
        <p:spPr>
          <a:xfrm>
            <a:off x="3571920" y="2643120"/>
            <a:ext cx="1776240" cy="2360520"/>
          </a:xfrm>
          <a:prstGeom prst="rect">
            <a:avLst/>
          </a:prstGeom>
          <a:ln w="0">
            <a:noFill/>
          </a:ln>
        </p:spPr>
      </p:pic>
      <p:sp>
        <p:nvSpPr>
          <p:cNvPr id="302" name="Стрелка вправо 10">
            <a:hlinkClick r:id="rId3" action="ppaction://hlinksldjump"/>
          </p:cNvPr>
          <p:cNvSpPr/>
          <p:nvPr/>
        </p:nvSpPr>
        <p:spPr>
          <a:xfrm>
            <a:off x="7500960" y="6143760"/>
            <a:ext cx="1071720" cy="500040"/>
          </a:xfrm>
          <a:prstGeom prst="rightArrow">
            <a:avLst>
              <a:gd name="adj1" fmla="val 50000"/>
              <a:gd name="adj2" fmla="val 50009"/>
            </a:avLst>
          </a:prstGeom>
          <a:solidFill>
            <a:srgbClr val="00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Calibri"/>
                <a:hlinkClick r:id="rId4" action="ppaction://hlinksldjump"/>
              </a:rPr>
              <a:t>Warum lernte Kato Englisch?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cc"/>
                </a:solidFill>
                <a:latin typeface="Arial"/>
              </a:rPr>
              <a:t>Macht Schlussfolgerungen</a:t>
            </a: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400" spc="-1" strike="noStrike">
                <a:solidFill>
                  <a:srgbClr val="000000"/>
                </a:solidFill>
                <a:latin typeface="Arial"/>
              </a:rPr>
              <a:t>Kato lernte folgende Sprachen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400" spc="-1" strike="noStrike">
                <a:solidFill>
                  <a:srgbClr val="000000"/>
                </a:solidFill>
                <a:latin typeface="Arial"/>
              </a:rPr>
              <a:t>Um Sprachen              zu  erlernen,         braucht man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4" descr="618fa2b8e67a5dda335c15deb6186f09[1]"/>
          <p:cNvPicPr/>
          <p:nvPr/>
        </p:nvPicPr>
        <p:blipFill>
          <a:blip r:embed="rId1"/>
          <a:stretch/>
        </p:blipFill>
        <p:spPr>
          <a:xfrm>
            <a:off x="6012000" y="2492280"/>
            <a:ext cx="3047760" cy="34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84360" y="3786120"/>
            <a:ext cx="4105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403280" y="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WordArt 8"/>
          <p:cNvSpPr txBox="1"/>
          <p:nvPr/>
        </p:nvSpPr>
        <p:spPr>
          <a:xfrm>
            <a:off x="857160" y="714240"/>
            <a:ext cx="7632720" cy="222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Unterthema: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as Erlernen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er Fremdsprachen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5" name="Picture 12" descr="i?id=38126715-39-72"/>
          <p:cNvPicPr/>
          <p:nvPr/>
        </p:nvPicPr>
        <p:blipFill>
          <a:blip r:embed="rId1"/>
          <a:stretch/>
        </p:blipFill>
        <p:spPr>
          <a:xfrm>
            <a:off x="324000" y="3000240"/>
            <a:ext cx="3960720" cy="3643560"/>
          </a:xfrm>
          <a:prstGeom prst="rect">
            <a:avLst/>
          </a:prstGeom>
          <a:ln w="0">
            <a:noFill/>
          </a:ln>
        </p:spPr>
      </p:pic>
      <p:pic>
        <p:nvPicPr>
          <p:cNvPr id="216" name="i-tmb-0x" descr="i?id=285876874-08-72"/>
          <p:cNvPicPr/>
          <p:nvPr/>
        </p:nvPicPr>
        <p:blipFill>
          <a:blip r:embed="rId2"/>
          <a:stretch/>
        </p:blipFill>
        <p:spPr>
          <a:xfrm>
            <a:off x="4788000" y="3000240"/>
            <a:ext cx="4140000" cy="3571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Das Studium der</a:t>
            </a: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 Fremdsprachen bereichert die Muttersprache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i="1" lang="de-DE" sz="3200" spc="-1" strike="noStrike">
                <a:solidFill>
                  <a:srgbClr val="0000cc"/>
                </a:solidFill>
                <a:latin typeface="Arial"/>
              </a:rPr>
              <a:t>Welche Zitate gefällt euch am besten?</a:t>
            </a:r>
            <a:br>
              <a:rPr sz="3200"/>
            </a:br>
            <a:r>
              <a:rPr b="1" i="1" lang="de-DE" sz="3200" spc="-1" strike="noStrike">
                <a:solidFill>
                  <a:srgbClr val="0000cc"/>
                </a:solidFill>
                <a:latin typeface="Arial"/>
              </a:rPr>
              <a:t>Lest bitte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Der Mensch ist so viele Male Mensch, wie viele Fremdsprachen er kennt“      Goethe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Wer eine  Fremdsprache nicht kennt, weiß nichts von seiner eigenen“               Goethe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ine Fremdsprache ist eine Waffe im Kampf des Lebens“ Marx                                 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5" descr="book13[1]"/>
          <p:cNvPicPr/>
          <p:nvPr/>
        </p:nvPicPr>
        <p:blipFill>
          <a:blip r:embed="rId1"/>
          <a:stretch/>
        </p:blipFill>
        <p:spPr>
          <a:xfrm>
            <a:off x="250920" y="189000"/>
            <a:ext cx="691920" cy="104760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6" descr="book32[1]"/>
          <p:cNvPicPr/>
          <p:nvPr/>
        </p:nvPicPr>
        <p:blipFill>
          <a:blip r:embed="rId2"/>
          <a:stretch/>
        </p:blipFill>
        <p:spPr>
          <a:xfrm>
            <a:off x="7740720" y="5688000"/>
            <a:ext cx="140328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cc"/>
                </a:solidFill>
                <a:latin typeface="Arial"/>
              </a:rPr>
              <a:t>Welche Schlussfolgerungen können wir aus der Stunde ziehen?</a:t>
            </a:r>
            <a:br>
              <a:rPr sz="2800"/>
            </a:br>
            <a:r>
              <a:rPr b="1" lang="de-DE" sz="2800" spc="-1" strike="noStrike">
                <a:solidFill>
                  <a:srgbClr val="0000cc"/>
                </a:solidFill>
                <a:latin typeface="Arial"/>
              </a:rPr>
              <a:t>Was haben wir über die Rolle der Sprachen festgestellt?</a:t>
            </a:r>
            <a:br>
              <a:rPr sz="2800"/>
            </a:br>
            <a:r>
              <a:rPr b="1" lang="de-DE" sz="2800" spc="-1" strike="noStrike">
                <a:solidFill>
                  <a:srgbClr val="0000cc"/>
                </a:solidFill>
                <a:latin typeface="Arial"/>
              </a:rPr>
              <a:t>Was braucht man, um Fremdsprachen zu erlern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7667280" y="3499920"/>
            <a:ext cx="95724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4"/>
          <p:cNvSpPr/>
          <p:nvPr/>
        </p:nvSpPr>
        <p:spPr>
          <a:xfrm>
            <a:off x="611280" y="3290400"/>
            <a:ext cx="309708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- </a:t>
            </a:r>
            <a:r>
              <a:rPr b="0" lang="de-DE" sz="2400" spc="-1" strike="noStrike">
                <a:solidFill>
                  <a:srgbClr val="ffcc00"/>
                </a:solidFill>
                <a:latin typeface="Times New Roman"/>
              </a:rPr>
              <a:t>spielen eine große  Rolle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- </a:t>
            </a:r>
            <a:r>
              <a:rPr b="0" lang="de-DE" sz="2400" spc="-1" strike="noStrike">
                <a:solidFill>
                  <a:srgbClr val="ffcc00"/>
                </a:solidFill>
                <a:latin typeface="Times New Roman"/>
              </a:rPr>
              <a:t>ist nicht leich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- </a:t>
            </a:r>
            <a:r>
              <a:rPr b="0" lang="de-DE" sz="2400" spc="-1" strike="noStrike">
                <a:solidFill>
                  <a:srgbClr val="ffcc00"/>
                </a:solidFill>
                <a:latin typeface="Times New Roman"/>
              </a:rPr>
              <a:t>zahlreiche Sprachen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3" name="Rectangle 5"/>
          <p:cNvSpPr/>
          <p:nvPr/>
        </p:nvSpPr>
        <p:spPr>
          <a:xfrm>
            <a:off x="5148360" y="2849760"/>
            <a:ext cx="370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- </a:t>
            </a:r>
            <a:r>
              <a:rPr b="0" lang="de-DE" sz="2400" spc="-1" strike="noStrike">
                <a:solidFill>
                  <a:srgbClr val="ffcc00"/>
                </a:solidFill>
                <a:latin typeface="Times New Roman"/>
              </a:rPr>
              <a:t>ohne Sprache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- </a:t>
            </a:r>
            <a:r>
              <a:rPr b="0" lang="de-DE" sz="2400" spc="-1" strike="noStrike">
                <a:solidFill>
                  <a:srgbClr val="ffcc00"/>
                </a:solidFill>
                <a:latin typeface="Times New Roman"/>
              </a:rPr>
              <a:t>Traditionen, Sitten und Bräuche der Völker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-</a:t>
            </a:r>
            <a:r>
              <a:rPr b="0" lang="de-DE" sz="2400" spc="-1" strike="noStrike">
                <a:solidFill>
                  <a:srgbClr val="ffcc00"/>
                </a:solidFill>
                <a:latin typeface="Times New Roman"/>
              </a:rPr>
              <a:t> ein wichtiges Mittel der Kommunikation, der Information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4" name="Rectangle 6"/>
          <p:cNvSpPr/>
          <p:nvPr/>
        </p:nvSpPr>
        <p:spPr>
          <a:xfrm>
            <a:off x="2771640" y="5443200"/>
            <a:ext cx="374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ffcc00"/>
                </a:solidFill>
                <a:latin typeface="Times New Roman"/>
              </a:rPr>
              <a:t>kein besonderes Talent 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- </a:t>
            </a:r>
            <a:r>
              <a:rPr b="0" lang="de-DE" sz="2400" spc="-1" strike="noStrike">
                <a:solidFill>
                  <a:srgbClr val="ffcc00"/>
                </a:solidFill>
                <a:latin typeface="Times New Roman"/>
              </a:rPr>
              <a:t>Interesse, Ausdauer und Zei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15" name="Picture 7" descr="i?id=34081874-25-72"/>
          <p:cNvPicPr/>
          <p:nvPr/>
        </p:nvPicPr>
        <p:blipFill>
          <a:blip r:embed="rId1"/>
          <a:stretch/>
        </p:blipFill>
        <p:spPr>
          <a:xfrm>
            <a:off x="468360" y="5094360"/>
            <a:ext cx="1800000" cy="135576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8" descr="i?id=311889634-31-72"/>
          <p:cNvPicPr/>
          <p:nvPr/>
        </p:nvPicPr>
        <p:blipFill>
          <a:blip r:embed="rId2"/>
          <a:stretch/>
        </p:blipFill>
        <p:spPr>
          <a:xfrm>
            <a:off x="6877080" y="5300640"/>
            <a:ext cx="1932120" cy="96696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9" descr="i?id=147905804-15-72"/>
          <p:cNvPicPr/>
          <p:nvPr/>
        </p:nvPicPr>
        <p:blipFill>
          <a:blip r:embed="rId3"/>
          <a:stretch/>
        </p:blipFill>
        <p:spPr>
          <a:xfrm>
            <a:off x="3924360" y="3500280"/>
            <a:ext cx="136836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7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203280" y="4581360"/>
            <a:ext cx="2663640" cy="206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Deutsch Englisch D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ä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nisch Norwegisch Schwedis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435600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340320" y="1628640"/>
            <a:ext cx="2803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Organization Chart 13"/>
          <p:cNvGrpSpPr/>
          <p:nvPr/>
        </p:nvGrpSpPr>
        <p:grpSpPr>
          <a:xfrm>
            <a:off x="0" y="0"/>
            <a:ext cx="9143280" cy="4407120"/>
            <a:chOff x="0" y="0"/>
            <a:chExt cx="9143280" cy="4407120"/>
          </a:xfrm>
        </p:grpSpPr>
        <p:cxnSp>
          <p:nvCxnSpPr>
            <p:cNvPr id="221" name="_s1028"/>
            <p:cNvCxnSpPr>
              <a:stCxn id="222" idx="0"/>
              <a:endCxn id="223" idx="2"/>
            </p:cNvCxnSpPr>
            <p:nvPr/>
          </p:nvCxnSpPr>
          <p:spPr>
            <a:xfrm flipV="1" rot="16200000">
              <a:off x="5730480" y="603000"/>
              <a:ext cx="882000" cy="3200760"/>
            </a:xfrm>
            <a:prstGeom prst="bentConnector3">
              <a:avLst>
                <a:gd name="adj1" fmla="val 1237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4" name="_s1029"/>
            <p:cNvCxnSpPr>
              <a:stCxn id="225" idx="0"/>
              <a:endCxn id="223" idx="2"/>
            </p:cNvCxnSpPr>
            <p:nvPr/>
          </p:nvCxnSpPr>
          <p:spPr>
            <a:xfrm flipV="1">
              <a:off x="4571280" y="1762560"/>
              <a:ext cx="3240" cy="882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6" name="_s1030"/>
            <p:cNvCxnSpPr>
              <a:stCxn id="227" idx="0"/>
              <a:endCxn id="223" idx="2"/>
            </p:cNvCxnSpPr>
            <p:nvPr/>
          </p:nvCxnSpPr>
          <p:spPr>
            <a:xfrm flipH="1" flipV="1" rot="5400000">
              <a:off x="2530080" y="603000"/>
              <a:ext cx="882000" cy="3200760"/>
            </a:xfrm>
            <a:prstGeom prst="bentConnector3">
              <a:avLst>
                <a:gd name="adj1" fmla="val 1237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3" name="_s1031"/>
            <p:cNvSpPr/>
            <p:nvPr/>
          </p:nvSpPr>
          <p:spPr>
            <a:xfrm>
              <a:off x="3200040" y="0"/>
              <a:ext cx="2742840" cy="17629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4400" spc="-1" strike="noStrike">
                  <a:solidFill>
                    <a:srgbClr val="ff0000"/>
                  </a:solidFill>
                  <a:latin typeface="Times New Roman"/>
                </a:rPr>
                <a:t>Die europäischen </a:t>
              </a:r>
              <a:endParaRPr b="0" lang="en-US" sz="4400" spc="-1" strike="noStrike">
                <a:solidFill>
                  <a:srgbClr val="ffcc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4400" spc="-1" strike="noStrike">
                  <a:solidFill>
                    <a:srgbClr val="ff0000"/>
                  </a:solidFill>
                  <a:latin typeface="Times New Roman"/>
                </a:rPr>
                <a:t>Sprachen werden </a:t>
              </a:r>
              <a:endParaRPr b="0" lang="en-US" sz="4400" spc="-1" strike="noStrike">
                <a:solidFill>
                  <a:srgbClr val="ffcc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4400" spc="-1" strike="noStrike">
                  <a:solidFill>
                    <a:srgbClr val="ff0000"/>
                  </a:solidFill>
                  <a:latin typeface="Times New Roman"/>
                </a:rPr>
                <a:t>in drei Gruppen eingeteilt</a:t>
              </a:r>
              <a:endParaRPr b="0" lang="en-US" sz="44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227" name="_s1032"/>
            <p:cNvSpPr/>
            <p:nvPr/>
          </p:nvSpPr>
          <p:spPr>
            <a:xfrm>
              <a:off x="0" y="2644200"/>
              <a:ext cx="2742840" cy="17629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8080"/>
                  </a:solidFill>
                  <a:latin typeface="Times New Roman"/>
                </a:rPr>
                <a:t>die romanischen </a:t>
              </a:r>
              <a:endParaRPr b="0" lang="en-US" sz="2800" spc="-1" strike="noStrike">
                <a:solidFill>
                  <a:srgbClr val="ffcc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8080"/>
                  </a:solidFill>
                  <a:latin typeface="Times New Roman"/>
                </a:rPr>
                <a:t>Sprachen</a:t>
              </a:r>
              <a:endParaRPr b="0" lang="en-US" sz="2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225" name="_s1033"/>
            <p:cNvSpPr/>
            <p:nvPr/>
          </p:nvSpPr>
          <p:spPr>
            <a:xfrm>
              <a:off x="3200040" y="2644200"/>
              <a:ext cx="2742840" cy="17629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222" name="_s1034"/>
            <p:cNvSpPr/>
            <p:nvPr/>
          </p:nvSpPr>
          <p:spPr>
            <a:xfrm>
              <a:off x="6400440" y="2644200"/>
              <a:ext cx="2742840" cy="17629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228" name="Rectangle 21"/>
          <p:cNvSpPr/>
          <p:nvPr/>
        </p:nvSpPr>
        <p:spPr>
          <a:xfrm>
            <a:off x="6217560" y="2997360"/>
            <a:ext cx="301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de-DE" sz="2800" spc="-1" strike="noStrike">
                <a:solidFill>
                  <a:srgbClr val="808080"/>
                </a:solidFill>
                <a:latin typeface="Times New Roman"/>
              </a:rPr>
              <a:t>die germanischen 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808080"/>
                </a:solidFill>
                <a:latin typeface="Times New Roman"/>
              </a:rPr>
              <a:t>  </a:t>
            </a:r>
            <a:r>
              <a:rPr b="1" lang="de-DE" sz="2800" spc="-1" strike="noStrike">
                <a:solidFill>
                  <a:srgbClr val="808080"/>
                </a:solidFill>
                <a:latin typeface="Times New Roman"/>
              </a:rPr>
              <a:t>Sprachen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9" name="Rectangle 22"/>
          <p:cNvSpPr/>
          <p:nvPr/>
        </p:nvSpPr>
        <p:spPr>
          <a:xfrm>
            <a:off x="3278160" y="3141720"/>
            <a:ext cx="243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808080"/>
                </a:solidFill>
                <a:latin typeface="Times New Roman"/>
              </a:rPr>
              <a:t>die slawischen 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808080"/>
                </a:solidFill>
                <a:latin typeface="Times New Roman"/>
              </a:rPr>
              <a:t>Sprachen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0" name="Rectangle 23"/>
          <p:cNvSpPr/>
          <p:nvPr/>
        </p:nvSpPr>
        <p:spPr>
          <a:xfrm>
            <a:off x="539640" y="4581360"/>
            <a:ext cx="2305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talienisch 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Französisch 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Spanisch 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Portugiesisch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1" name="Rectangle 24"/>
          <p:cNvSpPr/>
          <p:nvPr/>
        </p:nvSpPr>
        <p:spPr>
          <a:xfrm>
            <a:off x="6516720" y="4508640"/>
            <a:ext cx="262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ussisch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krainisch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lorussisch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olnisch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schechisch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lowenisch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5194080" cy="58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Was meint ihr, muss man ein besonderes Talent haben, um Fremdsprachen zu erlernen?</a:t>
            </a:r>
            <a:br>
              <a:rPr sz="3200"/>
            </a:br>
            <a:br>
              <a:rPr sz="3200"/>
            </a:b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Lesen wir, was die ungarische Dolmetscherin </a:t>
            </a:r>
            <a:r>
              <a:rPr b="1" i="1" lang="de-DE" sz="3200" spc="-1" strike="noStrike">
                <a:solidFill>
                  <a:srgbClr val="0000cc"/>
                </a:solidFill>
                <a:latin typeface="Arial"/>
              </a:rPr>
              <a:t>Kato Lomb</a:t>
            </a: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 in ihrem Buch </a:t>
            </a:r>
            <a:r>
              <a:rPr b="1" i="1" lang="de-DE" sz="3200" spc="-1" strike="noStrike">
                <a:solidFill>
                  <a:srgbClr val="ff0000"/>
                </a:solidFill>
                <a:latin typeface="Arial"/>
              </a:rPr>
              <a:t>„Wie ich die Fremdsprachen erlernte“</a:t>
            </a: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 geschrieben hat.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4" descr="LombKato1"/>
          <p:cNvPicPr/>
          <p:nvPr/>
        </p:nvPicPr>
        <p:blipFill>
          <a:blip r:embed="rId1"/>
          <a:stretch/>
        </p:blipFill>
        <p:spPr>
          <a:xfrm>
            <a:off x="5076720" y="1125360"/>
            <a:ext cx="4067280" cy="36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924000" y="1125360"/>
            <a:ext cx="4895640" cy="46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In ihrem Buch erzählt Kato Lomb über die Rolle der Fremdsprachen in ihrem Leben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23320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4" descr="ANd9GcSKjjceQv78AEYy_8I0a4umBiLRrzhn2gqhclTmsk6JEW3_SOnZVBx9oQ"/>
          <p:cNvPicPr/>
          <p:nvPr/>
        </p:nvPicPr>
        <p:blipFill>
          <a:blip r:embed="rId1"/>
          <a:stretch/>
        </p:blipFill>
        <p:spPr>
          <a:xfrm>
            <a:off x="395280" y="836640"/>
            <a:ext cx="30942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0" y="0"/>
            <a:ext cx="680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In der Schule und im Gymnasium lernte sie Französisch. Ihr gefiel auch die lateinische Sprach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Aber die Lehrer waren der Meinung, dass Kato kein besonderes Talent für Sprachen hatt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Nachdem K. Lomb das Gymnasium beendet hatte, kam sie auf die Universität. Hier studierte sie Naturwissenschaft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4" descr="ANd9GcSji7uJIlC6jDwph-QAFXlCgwQZN1RUNF8flxG3rRkviWaGVfhJ4wcYrQ"/>
          <p:cNvPicPr/>
          <p:nvPr/>
        </p:nvPicPr>
        <p:blipFill>
          <a:blip r:embed="rId1"/>
          <a:stretch/>
        </p:blipFill>
        <p:spPr>
          <a:xfrm>
            <a:off x="6877080" y="1989000"/>
            <a:ext cx="204948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0" y="188640"/>
            <a:ext cx="9144000" cy="51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Man brauchte aber Englischlehrer. Kato konnte kein Wort Englisch. Doch sie suchte nach einem Lehrbuch und fand e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Nachdem Kato das Lehrbuch durchstudiert hatte, begann sie als Englischlehrerin zu arbeiten. Und könnt ihr euch vorstell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Es ging. Sie arbeitet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erfolgreich al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Englischlehrerin.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4" descr="ANd9GcQKTCB77ZGH8Isj7FcX665ZS0hIOSsjEvfgnW2AlNRabqAFq-77Y6d0hTk"/>
          <p:cNvPicPr/>
          <p:nvPr/>
        </p:nvPicPr>
        <p:blipFill>
          <a:blip r:embed="rId1"/>
          <a:stretch/>
        </p:blipFill>
        <p:spPr>
          <a:xfrm>
            <a:off x="6012000" y="4653000"/>
            <a:ext cx="2809800" cy="21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708000" y="333000"/>
            <a:ext cx="497844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1941 kam Kato Lomb ein russisch-englisches Wörterbuch in die Hände und etwas später ein russischer Roman. Mit Hilfe dieser Bücher begann sie Russisch zu lern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5" descr="i?id=440698806-48-72"/>
          <p:cNvPicPr/>
          <p:nvPr/>
        </p:nvPicPr>
        <p:blipFill>
          <a:blip r:embed="rId1"/>
          <a:stretch/>
        </p:blipFill>
        <p:spPr>
          <a:xfrm>
            <a:off x="0" y="333360"/>
            <a:ext cx="3419640" cy="25527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i?id=364511898-18-72"/>
          <p:cNvPicPr/>
          <p:nvPr/>
        </p:nvPicPr>
        <p:blipFill>
          <a:blip r:embed="rId2"/>
          <a:stretch/>
        </p:blipFill>
        <p:spPr>
          <a:xfrm>
            <a:off x="179280" y="3500280"/>
            <a:ext cx="3311640" cy="29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78920" y="333360"/>
            <a:ext cx="52578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Nach dem Krieg arbeitete Kato als Dolmetscherin. In dieser Zeit  lernte sie Rumänisch, Chinesisch, Italienisch, Spanisch, Deutsch und noch andere Sprach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Kato Lomb ist der Meinung, dass man kein besonderes Talent braucht, um Sprachen zu erlernen. Man braucht nur Interesse, Ausdauer und Ze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4" descr="ANd9GcREVISfGGztCkapLomCFBFrAGAcP8bxybUoEi2UVdUF7TLGmQWnCCWAgzlC"/>
          <p:cNvPicPr/>
          <p:nvPr/>
        </p:nvPicPr>
        <p:blipFill>
          <a:blip r:embed="rId1"/>
          <a:stretch/>
        </p:blipFill>
        <p:spPr>
          <a:xfrm>
            <a:off x="6084720" y="189000"/>
            <a:ext cx="2271960" cy="34560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5" descr="ANd9GcSKcOwu8tBU5I_nIBK6owYhpYIsCyrhYZwNE77OKQWwLZkOJGnABlqWLw"/>
          <p:cNvPicPr/>
          <p:nvPr/>
        </p:nvPicPr>
        <p:blipFill>
          <a:blip r:embed="rId2"/>
          <a:stretch/>
        </p:blipFill>
        <p:spPr>
          <a:xfrm>
            <a:off x="6588000" y="3933720"/>
            <a:ext cx="159732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6T20:45:06Z</dcterms:created>
  <dc:creator>Admin</dc:creator>
  <dc:description/>
  <dc:language>en-US</dc:language>
  <cp:lastModifiedBy>Зинченко</cp:lastModifiedBy>
  <dcterms:modified xsi:type="dcterms:W3CDTF">2012-04-26T07:38:35Z</dcterms:modified>
  <cp:revision>32</cp:revision>
  <dc:subject/>
  <dc:title>Thema "Die Rolle der Sprachen in unserem Leben"                                  Unterthema „Das Erlernen der Fremdsprachen.“</dc:title>
</cp:coreProperties>
</file>